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C06E-88BB-4294-B1DA-E0C010752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9CAE-B99E-486E-8CC4-FB9F4DD8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FC0F0F-3BB6-4602-B1E1-CF3A06AF1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48A49-321C-4E0A-845F-587BF615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135814-9AF4-4141-9B9C-655FF127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BD33C3-B039-45C9-B070-14AFCEA6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6B541-7BCE-407F-B7FE-0A27328C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2911B-035B-45E3-97FC-E47CFF8E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367384-B241-4AE4-A5A2-24ACEA29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2F578E-5B43-4642-AF89-60F833350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AD2C55-5B35-415B-8CD5-3B2086BF1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F7EC5-DE10-4D75-88AA-5F6CD984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9316-AC23-4663-96B0-2F2E60A76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AF0188-7608-4961-B08F-D7582DE3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F6B77-EB17-4E56-A459-66E3829E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756F6-000C-46F8-B2C2-D54AB973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B05551-61A2-426B-8873-62BFDE4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72DAA-D889-4916-BA0C-F1BCABAF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D968D-5D4E-4712-94E6-E3729A81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50893-4299-47CB-849F-174EC834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716D9-1ED2-4F8A-A334-3EA284DB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FAF4-DC28-4EFA-A643-95655FA46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39A999-986E-4C26-85BC-486D9074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660D-0F2B-4679-A0E6-2AFC72C7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DAA6B-46E5-4004-8B40-A7A2F7D5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A6194-E6B5-4C74-ACD5-9E469AB0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E963E-1B80-40EC-898F-2078F7E3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A4FB3-3EDA-4433-A490-297B0821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45AD7A-6739-4B4D-BE51-6FF20174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88D80C-8AA1-4C77-8E75-D87E4D0E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53C86-24C4-44F6-B3D8-6A1F1061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C55924-A5B2-4FEE-95D5-229836114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54251-3380-49FB-B41E-29C60932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91117-B4C9-4CE1-8921-D942D8FD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5BE4-FB7D-4CF5-8851-647BCC87F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77C17-3B6F-46B9-AB1E-9F094CE6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1F2C6E-6447-487C-8C63-EAC3E5621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5A8164-29DF-4B00-BB88-6B18C51A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779CF7-7EB6-49D5-8240-44CF27BB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92E39-16C8-4FFD-87A2-A9412CA4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1C3B-CB49-4514-A978-44024922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536AB-D461-4004-BABF-19583CCD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B8C1BF-A4AD-46AD-991B-90503E66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C68B96-D36A-43DA-B4FB-217D0FC12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1B9B95-90F9-48EC-81C1-EB29AE79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AD219-9E2E-4020-9C88-C8DF4B88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92C72-9464-4D12-9FB8-26763A7B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44EC83-B05B-4F9F-80E9-FB9A2601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BE316-6230-47AD-BE0B-202CEC11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ABCC4-B83E-47CD-A27B-28F10B118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865017-118B-43E2-9C68-78B84DC61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11D6-C8D2-4477-966C-CF6D34960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9CA77-58B5-4396-A403-C4AB1278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8CAD-CE31-440C-A5E1-8F15B135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8F93B-B459-4C50-8A48-B54EECAE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FB6C-258B-4A04-9C34-4116D724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35CA-36EE-4F9A-B0B7-FF371011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5E23-3E58-4806-89DF-E6AA5000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4745-E33E-44BD-9662-A0EE28F1A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99D-6F91-4E33-B205-AEF2EC03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3C88-1820-423C-821E-3397614C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8D74-E30F-4CA1-9F6B-11347D6F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1D0C-E401-4FF2-99A9-E1DD9875D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889BA-53B2-4FF7-AD0F-5D057A2B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D4AEC-45BE-4C48-8E9A-F13D1F7F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72849-698D-4438-8FE4-38E137C5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F841-2647-4E92-B488-095253FE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120E-C7C6-4910-B84F-1340FFF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A152C-A5F7-4F18-BDEA-4ACCB8CB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1233-34BA-46C6-95D8-523279FC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533E4-E816-47B5-AC31-7736534E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AADE1-696B-4AD8-9957-78B74AE6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758AE-F32B-4ECF-AA14-8ACE9A2A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ABCD-A6B5-4680-AB36-A8EE7D74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635D9-BF90-4297-AA8C-0DF6BF208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6D6D-42E0-46E7-ACED-DA908482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794B8-A545-4FC3-ACBA-F4D6F55A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7A727A-EB2C-46E3-9C57-B1690C74A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9340-73A0-4A01-B8BC-85273D4C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DBB6-FAF7-42D7-BB5A-6AF1F666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90017E-1C01-4AE4-8097-6562721C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1C514-6A69-4B7B-B9A1-FA1B2C7F3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70AE-9123-4056-AB4A-6CD67347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376AA-F558-4EFF-95BC-CBB99E7C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99046-FC69-4EED-8946-9EB94CB8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FCE2-CCF4-4683-98AE-03485C28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9945-1BD5-44C2-B3D1-EE7D7C3FF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5663F8-750C-410E-BCDF-B609EFBFE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FFF84-F2EE-4AB8-A820-C8E9E56A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7769-DD62-429B-B8AE-9D29EE36D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25150-746E-48BE-852E-F85A5F2F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E27471-6373-4CA8-822E-0151A7E2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E2FA2-E5CA-4DDF-95EA-2AECEB49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A3A2-9CA6-4902-9D9D-41926D2E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5A1A6-400B-4BA7-B039-C5C73393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76EB1-2D23-4785-91E1-E89F79446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93B21-3CF2-4AE6-A584-6C112C89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8ECC4-FCF4-4B1A-8FF9-874531DE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260F-63B5-4F02-891C-0C502A71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77C28-80F2-4FA4-9BDB-407D66B4D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D33B-8B54-4E47-BA7A-F0E994A2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3EDE2-3CFC-4D48-A627-A2A95760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CD9FE-BA8A-4F67-A43C-9BD15EC4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7E618-0B9B-40FA-A1D2-6EC3147C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3239F-1315-46CB-AB9C-500D00FD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44C2E-4AED-4B3C-B56B-9578C2E51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D300D-8C10-4AA8-BF7C-1AC46CDF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75618-C2F0-45C1-961E-BCEB3CCF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24893-5BC5-4A2B-952C-189CACC34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8F316-B500-47C0-A3E2-B0089A67A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61587-A7E7-403E-AF15-359ED39F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2D1-EC1A-45CA-918B-956342CF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2F0F64-6E74-4E4C-BD2D-D3572179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B37C-87B7-4BD1-B99D-FADFF71B4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EF346-823B-4E09-8C2B-1C67AF32F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5D605-EB28-4E47-ABAB-FD4E80FC0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7022E3-63BD-4229-968C-90DE1053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EFB5A-5AD5-4A9F-9F3C-74F7A03D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D8C75E-884E-48BB-BFE8-965511F08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19935-9F0E-4706-960A-D98BEAB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0FAD89-A89E-42A2-BB5F-470EB336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6E703-037B-42C4-99B5-28C4F962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676-C0E3-458B-AD69-EFBF27C8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71664-AEEE-4D45-B8D1-0C44E4DA3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0C2C-F2BF-42B9-BCCD-30ABA9C2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F9DC-CFC0-447C-94E4-4D573D39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DE029F-3935-402C-90FE-B74E8D439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4ED01-1BF5-4497-8B5D-74D241B7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BC7A-395D-4C00-AFC6-731E59A3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530E0-F5CB-493E-96D4-EB9E4E16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54C9B-A071-4670-95EC-A8A3D14CA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85D468-A0A0-434D-873B-A198FE334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B0BE0-A579-40B6-A702-E9121695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A9C-FFA4-480D-A69A-53B8DD13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9F9E3-BA71-4CCC-ADAB-3D17DF8A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30E0C-1F17-4893-B5DA-67C3678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05BE2-159A-432F-8122-C2E96220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A10873-0A8B-44FD-B5DF-34187E46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A447C-A804-468C-9BA0-7B7BEC461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5D32B-89B3-4135-B84D-9E35C0724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492D3-994F-4AE0-B659-20EE9086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0DC55B-C23D-4E23-930E-08DCC77D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3E772-EDFF-421A-A2B5-801914C9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D38CE9-3FE8-4DE9-808A-F3A3B39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0C0D2-D862-4129-837F-EB26287ADD3E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6C9E-5B9B-476D-B0D5-7D11BE2C52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650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51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65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5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5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6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6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6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6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7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8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8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9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9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9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70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0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1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1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1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2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2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2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3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3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4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4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4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4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5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5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5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75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75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0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0"/>
                          <a:pt x="15230" y="0"/>
                        </a:cubicBezTo>
                        <a:cubicBezTo>
                          <a:pt x="27159" y="0"/>
                          <a:pt x="-28706" y="9670"/>
                          <a:pt x="-28706" y="21600"/>
                        </a:cubicBezTo>
                        <a:cubicBezTo>
                          <a:pt x="-28706" y="21835"/>
                          <a:pt x="-28710" y="22070"/>
                          <a:pt x="-287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0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0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6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7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768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17F7-B1A1-4287-98FF-3CC1D0B78A4A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3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64B3-70FC-4B4C-AF7E-340FA950275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82AB-24E7-463A-89D0-9075638E4CE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6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7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40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337F-5ACB-46C7-B42F-0691CE8C58D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0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DCD12-544E-4BBF-9DF6-E8801CB7BBCA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227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28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231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234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237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238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241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242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245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48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0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1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3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54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6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257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9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260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2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263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5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66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8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69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272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75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7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78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81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3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84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6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87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90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2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93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5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96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8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99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1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02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4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07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10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2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13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5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16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319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322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4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325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328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331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334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337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9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0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0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0"/>
                      <a:pt x="12855" y="0"/>
                    </a:cubicBezTo>
                    <a:cubicBezTo>
                      <a:pt x="24784" y="0"/>
                      <a:pt x="-31081" y="9670"/>
                      <a:pt x="-31081" y="21600"/>
                    </a:cubicBezTo>
                    <a:cubicBezTo>
                      <a:pt x="-31081" y="21835"/>
                      <a:pt x="-31085" y="22070"/>
                      <a:pt x="-3109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0"/>
                      <a:pt x="15230" y="0"/>
                    </a:cubicBezTo>
                    <a:cubicBezTo>
                      <a:pt x="27159" y="0"/>
                      <a:pt x="-28706" y="9670"/>
                      <a:pt x="-28706" y="21600"/>
                    </a:cubicBezTo>
                    <a:cubicBezTo>
                      <a:pt x="-28706" y="21835"/>
                      <a:pt x="-28710" y="22070"/>
                      <a:pt x="-287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0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0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26B3D-95A3-4D90-B07E-9F07367C8EB8}" type="slidenum">
              <a:rPr b="0" lang="ru-RU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3752-14EE-4E41-A770-834414B3663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4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5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5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6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010C4-5685-4445-AA4A-A569F61DED0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1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155D-0407-4ADD-8122-76243C910817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6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6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BE61-9932-4438-AD69-7AF4174F89B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WordArt 4"/>
          <p:cNvSpPr txBox="1"/>
          <p:nvPr/>
        </p:nvSpPr>
        <p:spPr>
          <a:xfrm>
            <a:off x="611280" y="260280"/>
            <a:ext cx="75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удвоенные соглас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867" name="WordArt 5"/>
          <p:cNvSpPr txBox="1"/>
          <p:nvPr/>
        </p:nvSpPr>
        <p:spPr>
          <a:xfrm>
            <a:off x="1763640" y="1773360"/>
            <a:ext cx="619308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йди слова с ошибкой</a:t>
            </a:r>
            <a:endParaRPr b="0" lang="en-US" sz="1800" spc="1" strike="noStrike">
              <a:ln w="0">
                <a:noFill/>
              </a:ln>
              <a:solidFill>
                <a:srgbClr val="cc00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8" name="AutoShape 7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8"/>
          <p:cNvSpPr/>
          <p:nvPr/>
        </p:nvSpPr>
        <p:spPr>
          <a:xfrm>
            <a:off x="608472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AutoShape 9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AutoShape 10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AutoShape 11"/>
          <p:cNvSpPr/>
          <p:nvPr/>
        </p:nvSpPr>
        <p:spPr>
          <a:xfrm>
            <a:off x="3276720" y="4508640"/>
            <a:ext cx="208728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AutoShape 13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AutoShape 16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AutoShape 17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AutoShape 18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AutoShape 19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20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1"/>
          <p:cNvSpPr/>
          <p:nvPr/>
        </p:nvSpPr>
        <p:spPr>
          <a:xfrm>
            <a:off x="3276720" y="4508640"/>
            <a:ext cx="208728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22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AutoShape 23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AutoShape 24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AutoShape 25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AutoShape 26"/>
          <p:cNvSpPr/>
          <p:nvPr/>
        </p:nvSpPr>
        <p:spPr>
          <a:xfrm>
            <a:off x="3276720" y="4508640"/>
            <a:ext cx="208728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AutoShape 27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AutoShape 28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AutoShape 29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30"/>
          <p:cNvSpPr/>
          <p:nvPr/>
        </p:nvSpPr>
        <p:spPr>
          <a:xfrm>
            <a:off x="608472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31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32"/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33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4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5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36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37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AutoShape 38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AutoShape 39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AutoShape 40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AutoShape 41"/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AutoShape 42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43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44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AutoShape 45"/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AutoShape 46"/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47"/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AutoShape 48"/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AutoShape 49"/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AutoShape 50">
            <a:hlinkClick r:id="rId1" action="ppaction://hlinksldjump"/>
          </p:cNvPr>
          <p:cNvSpPr/>
          <p:nvPr/>
        </p:nvSpPr>
        <p:spPr>
          <a:xfrm>
            <a:off x="608472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AutoShape 51">
            <a:hlinkClick r:id="rId2" action="ppaction://hlinksldjump"/>
          </p:cNvPr>
          <p:cNvSpPr/>
          <p:nvPr/>
        </p:nvSpPr>
        <p:spPr>
          <a:xfrm>
            <a:off x="6084720" y="3284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ЕР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52">
            <a:hlinkClick r:id="rId3" action="ppaction://hlinksldjump"/>
          </p:cNvPr>
          <p:cNvSpPr/>
          <p:nvPr/>
        </p:nvSpPr>
        <p:spPr>
          <a:xfrm>
            <a:off x="3059280" y="4508640"/>
            <a:ext cx="2449440" cy="792000"/>
          </a:xfrm>
          <a:prstGeom prst="roundRect">
            <a:avLst>
              <a:gd name="adj" fmla="val 16667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ТЕЛЕГР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AutoShape 53">
            <a:hlinkClick r:id="rId4" action="ppaction://hlinksldjump"/>
          </p:cNvPr>
          <p:cNvSpPr/>
          <p:nvPr/>
        </p:nvSpPr>
        <p:spPr>
          <a:xfrm>
            <a:off x="3276720" y="3213000"/>
            <a:ext cx="2087280" cy="719280"/>
          </a:xfrm>
          <a:prstGeom prst="roundRect">
            <a:avLst>
              <a:gd name="adj" fmla="val 16667"/>
            </a:avLst>
          </a:prstGeom>
          <a:solidFill>
            <a:srgbClr val="00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ККОР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AutoShape 54">
            <a:hlinkClick r:id="rId5" action="ppaction://hlinksldjump"/>
          </p:cNvPr>
          <p:cNvSpPr/>
          <p:nvPr/>
        </p:nvSpPr>
        <p:spPr>
          <a:xfrm>
            <a:off x="468360" y="3213000"/>
            <a:ext cx="208764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AutoShape 55">
            <a:hlinkClick r:id="rId6" action="ppaction://hlinksldjump"/>
          </p:cNvPr>
          <p:cNvSpPr/>
          <p:nvPr/>
        </p:nvSpPr>
        <p:spPr>
          <a:xfrm>
            <a:off x="395280" y="4508640"/>
            <a:ext cx="2087640" cy="718920"/>
          </a:xfrm>
          <a:prstGeom prst="roundRect">
            <a:avLst>
              <a:gd name="adj" fmla="val 16667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У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AutoShape 56">
            <a:hlinkClick r:id="" action="ppaction://hlinkshowjump?jump=nextslide"/>
          </p:cNvPr>
          <p:cNvSpPr/>
          <p:nvPr/>
        </p:nvSpPr>
        <p:spPr>
          <a:xfrm>
            <a:off x="8101080" y="6219720"/>
            <a:ext cx="1042920" cy="638280"/>
          </a:xfrm>
          <a:custGeom>
            <a:avLst/>
            <a:gdLst>
              <a:gd name="textAreaLeft" fmla="*/ 41040 w 1042920"/>
              <a:gd name="textAreaRight" fmla="*/ 1001880 w 1042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35286" h="21600">
                <a:moveTo>
                  <a:pt x="0" y="0"/>
                </a:moveTo>
                <a:lnTo>
                  <a:pt x="35286" y="0"/>
                </a:lnTo>
                <a:lnTo>
                  <a:pt x="35286" y="21600"/>
                </a:lnTo>
                <a:lnTo>
                  <a:pt x="0" y="21600"/>
                </a:lnTo>
                <a:close/>
              </a:path>
              <a:path fill="lightenLess" w="35286" h="21600">
                <a:moveTo>
                  <a:pt x="0" y="0"/>
                </a:moveTo>
                <a:lnTo>
                  <a:pt x="35286" y="0"/>
                </a:lnTo>
                <a:lnTo>
                  <a:pt x="33886" y="1400"/>
                </a:lnTo>
                <a:lnTo>
                  <a:pt x="1400" y="1400"/>
                </a:lnTo>
                <a:close/>
              </a:path>
              <a:path fill="darken" w="35286" h="21600">
                <a:moveTo>
                  <a:pt x="35286" y="0"/>
                </a:moveTo>
                <a:lnTo>
                  <a:pt x="35286" y="21600"/>
                </a:lnTo>
                <a:lnTo>
                  <a:pt x="33886" y="20200"/>
                </a:lnTo>
                <a:lnTo>
                  <a:pt x="33886" y="1400"/>
                </a:lnTo>
                <a:close/>
              </a:path>
              <a:path fill="darkenLess" w="35286" h="21600">
                <a:moveTo>
                  <a:pt x="352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886" y="20200"/>
                </a:lnTo>
                <a:close/>
              </a:path>
              <a:path fill="lighten" w="352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286" h="21600">
                <a:moveTo>
                  <a:pt x="10636" y="3794"/>
                </a:moveTo>
                <a:lnTo>
                  <a:pt x="24649" y="10800"/>
                </a:lnTo>
                <a:lnTo>
                  <a:pt x="10636" y="17806"/>
                </a:lnTo>
                <a:close/>
              </a:path>
            </a:pathLst>
          </a:custGeom>
          <a:solidFill>
            <a:srgbClr val="a3b2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WordArt 5"/>
          <p:cNvSpPr txBox="1"/>
          <p:nvPr/>
        </p:nvSpPr>
        <p:spPr>
          <a:xfrm>
            <a:off x="1187280" y="189000"/>
            <a:ext cx="7632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ак переносятся слова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 удвоенными согласным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корне слова?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16" name="AutoShape 7">
            <a:hlinkClick r:id="rId1" action="ppaction://hlinksldjump"/>
          </p:cNvPr>
          <p:cNvSpPr/>
          <p:nvPr/>
        </p:nvSpPr>
        <p:spPr>
          <a:xfrm>
            <a:off x="611280" y="2565360"/>
            <a:ext cx="7488000" cy="719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 буквы остаются на стро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8"/>
          <p:cNvSpPr/>
          <p:nvPr/>
        </p:nvSpPr>
        <p:spPr>
          <a:xfrm>
            <a:off x="611280" y="3645000"/>
            <a:ext cx="7561080" cy="79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е буквы переносят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9"/>
          <p:cNvSpPr/>
          <p:nvPr/>
        </p:nvSpPr>
        <p:spPr>
          <a:xfrm>
            <a:off x="611280" y="4797360"/>
            <a:ext cx="7561080" cy="1079640"/>
          </a:xfrm>
          <a:prstGeom prst="roundRect">
            <a:avLst>
              <a:gd name="adj" fmla="val 16667"/>
            </a:avLst>
          </a:prstGeom>
          <a:solidFill>
            <a:srgbClr val="d1d1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дна буква остается на стро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другая переноси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0">
            <a:hlinkClick r:id="" action="ppaction://hlinkshowjump?jump=nextslide"/>
          </p:cNvPr>
          <p:cNvSpPr/>
          <p:nvPr/>
        </p:nvSpPr>
        <p:spPr>
          <a:xfrm>
            <a:off x="7956720" y="6138720"/>
            <a:ext cx="1187280" cy="719280"/>
          </a:xfrm>
          <a:custGeom>
            <a:avLst/>
            <a:gdLst>
              <a:gd name="textAreaLeft" fmla="*/ 46440 w 1187280"/>
              <a:gd name="textAreaRight" fmla="*/ 1140840 w 118728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647" h="21600">
                <a:moveTo>
                  <a:pt x="10817" y="3794"/>
                </a:moveTo>
                <a:lnTo>
                  <a:pt x="24830" y="10800"/>
                </a:lnTo>
                <a:lnTo>
                  <a:pt x="10817" y="17806"/>
                </a:lnTo>
                <a:close/>
              </a:path>
            </a:pathLst>
          </a:custGeom>
          <a:solidFill>
            <a:srgbClr val="00e4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WordArt 4"/>
          <p:cNvSpPr txBox="1"/>
          <p:nvPr/>
        </p:nvSpPr>
        <p:spPr>
          <a:xfrm>
            <a:off x="1798560" y="297000"/>
            <a:ext cx="7345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ожно ли провери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писание удвоенных согласных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1" name="AutoShape 7"/>
          <p:cNvSpPr/>
          <p:nvPr/>
        </p:nvSpPr>
        <p:spPr>
          <a:xfrm>
            <a:off x="755640" y="2427120"/>
            <a:ext cx="7920000" cy="1506600"/>
          </a:xfrm>
          <a:custGeom>
            <a:avLst/>
            <a:gdLst>
              <a:gd name="textAreaLeft" fmla="*/ 0 w 7920000"/>
              <a:gd name="textAreaRight" fmla="*/ 7920360 w 7920000"/>
              <a:gd name="textAreaTop" fmla="*/ 195120 h 1506600"/>
              <a:gd name="textAreaBottom" fmla="*/ 131148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AutoShape 8"/>
          <p:cNvSpPr/>
          <p:nvPr/>
        </p:nvSpPr>
        <p:spPr>
          <a:xfrm>
            <a:off x="826920" y="4365720"/>
            <a:ext cx="7705800" cy="1506600"/>
          </a:xfrm>
          <a:custGeom>
            <a:avLst/>
            <a:gdLst>
              <a:gd name="textAreaLeft" fmla="*/ 0 w 7705800"/>
              <a:gd name="textAreaRight" fmla="*/ 7706160 w 7705800"/>
              <a:gd name="textAreaTop" fmla="*/ 195120 h 1506600"/>
              <a:gd name="textAreaBottom" fmla="*/ 1311480 h 1506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ff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WordArt 9"/>
          <p:cNvSpPr txBox="1"/>
          <p:nvPr/>
        </p:nvSpPr>
        <p:spPr>
          <a:xfrm>
            <a:off x="900000" y="465300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Нет, такие слова нужно запомнить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24" name="WordArt 10"/>
          <p:cNvSpPr txBox="1"/>
          <p:nvPr/>
        </p:nvSpPr>
        <p:spPr>
          <a:xfrm>
            <a:off x="826920" y="2781360"/>
            <a:ext cx="74901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Да, нужно подобрать проверочное слово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925" name="AutoShape 11">
            <a:hlinkClick r:id="" action="ppaction://hlinkshowjump?jump=nextslide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23274" y="10800"/>
                </a:lnTo>
                <a:lnTo>
                  <a:pt x="9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WordArt 4"/>
          <p:cNvSpPr txBox="1"/>
          <p:nvPr/>
        </p:nvSpPr>
        <p:spPr>
          <a:xfrm>
            <a:off x="468360" y="243000"/>
            <a:ext cx="7416720" cy="15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Какое слово 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каждой группе лишнее?</a:t>
            </a:r>
            <a:endParaRPr b="0" lang="en-US" sz="1800" spc="1" strike="noStrike">
              <a:ln w="0">
                <a:noFill/>
              </a:ln>
              <a:solidFill>
                <a:srgbClr val="ff66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7" name="AutoShape 5"/>
          <p:cNvSpPr/>
          <p:nvPr/>
        </p:nvSpPr>
        <p:spPr>
          <a:xfrm>
            <a:off x="1476360" y="1916280"/>
            <a:ext cx="3024360" cy="3671640"/>
          </a:xfrm>
          <a:prstGeom prst="verticalScrol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…ет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у…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и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…л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AutoShape 6"/>
          <p:cNvSpPr/>
          <p:nvPr/>
        </p:nvSpPr>
        <p:spPr>
          <a:xfrm>
            <a:off x="4886280" y="1916280"/>
            <a:ext cx="3024360" cy="3600360"/>
          </a:xfrm>
          <a:prstGeom prst="verticalScroll">
            <a:avLst>
              <a:gd name="adj" fmla="val 1250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о…ей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…екти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…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7"/>
          <p:cNvSpPr/>
          <p:nvPr/>
        </p:nvSpPr>
        <p:spPr>
          <a:xfrm>
            <a:off x="2195640" y="1773360"/>
            <a:ext cx="89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8"/>
          <p:cNvSpPr/>
          <p:nvPr/>
        </p:nvSpPr>
        <p:spPr>
          <a:xfrm>
            <a:off x="5867280" y="1989000"/>
            <a:ext cx="8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1763640" y="3933720"/>
            <a:ext cx="204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п…ш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5056920" y="4859280"/>
            <a:ext cx="193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…ере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AutoShape 11">
            <a:hlinkClick r:id="" action="ppaction://hlinkshowjump?jump=lastslide"/>
          </p:cNvPr>
          <p:cNvSpPr/>
          <p:nvPr/>
        </p:nvSpPr>
        <p:spPr>
          <a:xfrm>
            <a:off x="7885080" y="6237360"/>
            <a:ext cx="1258920" cy="620640"/>
          </a:xfrm>
          <a:custGeom>
            <a:avLst/>
            <a:gdLst>
              <a:gd name="textAreaLeft" fmla="*/ 39960 w 1258920"/>
              <a:gd name="textAreaRight" fmla="*/ 1218960 w 1258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3801" h="21600">
                <a:moveTo>
                  <a:pt x="0" y="0"/>
                </a:moveTo>
                <a:lnTo>
                  <a:pt x="43801" y="0"/>
                </a:lnTo>
                <a:lnTo>
                  <a:pt x="43801" y="21600"/>
                </a:lnTo>
                <a:lnTo>
                  <a:pt x="0" y="21600"/>
                </a:lnTo>
                <a:close/>
              </a:path>
              <a:path fill="lightenLess" w="43801" h="21600">
                <a:moveTo>
                  <a:pt x="0" y="0"/>
                </a:moveTo>
                <a:lnTo>
                  <a:pt x="43801" y="0"/>
                </a:lnTo>
                <a:lnTo>
                  <a:pt x="42401" y="1400"/>
                </a:lnTo>
                <a:lnTo>
                  <a:pt x="1400" y="1400"/>
                </a:lnTo>
                <a:close/>
              </a:path>
              <a:path fill="darken" w="43801" h="21600">
                <a:moveTo>
                  <a:pt x="43801" y="0"/>
                </a:moveTo>
                <a:lnTo>
                  <a:pt x="43801" y="21600"/>
                </a:lnTo>
                <a:lnTo>
                  <a:pt x="42401" y="20200"/>
                </a:lnTo>
                <a:lnTo>
                  <a:pt x="42401" y="1400"/>
                </a:lnTo>
                <a:close/>
              </a:path>
              <a:path fill="darkenLess" w="43801" h="21600">
                <a:moveTo>
                  <a:pt x="438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401" y="20200"/>
                </a:lnTo>
                <a:close/>
              </a:path>
              <a:path fill="lighten" w="438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801" h="21600">
                <a:moveTo>
                  <a:pt x="25399" y="10800"/>
                </a:moveTo>
                <a:lnTo>
                  <a:pt x="14894" y="17806"/>
                </a:lnTo>
                <a:lnTo>
                  <a:pt x="14894" y="3794"/>
                </a:lnTo>
                <a:close/>
              </a:path>
              <a:path fill="darken" w="43801" h="21600">
                <a:moveTo>
                  <a:pt x="27245" y="3794"/>
                </a:moveTo>
                <a:lnTo>
                  <a:pt x="27245" y="17806"/>
                </a:lnTo>
                <a:lnTo>
                  <a:pt x="28907" y="17806"/>
                </a:lnTo>
                <a:lnTo>
                  <a:pt x="28907" y="3794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WordArt 4"/>
          <p:cNvSpPr txBox="1"/>
          <p:nvPr/>
        </p:nvSpPr>
        <p:spPr>
          <a:xfrm>
            <a:off x="1042920" y="2492280"/>
            <a:ext cx="5905440" cy="30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равильно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35" name="AutoShape 5">
            <a:hlinkClick r:id="" action="ppaction://hlinkshowjump?jump=previousslide"/>
          </p:cNvPr>
          <p:cNvSpPr/>
          <p:nvPr/>
        </p:nvSpPr>
        <p:spPr>
          <a:xfrm>
            <a:off x="7991640" y="6237360"/>
            <a:ext cx="1152360" cy="620640"/>
          </a:xfrm>
          <a:custGeom>
            <a:avLst/>
            <a:gdLst>
              <a:gd name="textAreaLeft" fmla="*/ 39960 w 1152360"/>
              <a:gd name="textAreaRight" fmla="*/ 1112400 w 1152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40095" h="21600">
                <a:moveTo>
                  <a:pt x="0" y="0"/>
                </a:moveTo>
                <a:lnTo>
                  <a:pt x="40095" y="0"/>
                </a:lnTo>
                <a:lnTo>
                  <a:pt x="40095" y="21600"/>
                </a:lnTo>
                <a:lnTo>
                  <a:pt x="0" y="21600"/>
                </a:lnTo>
                <a:close/>
              </a:path>
              <a:path fill="lightenLess" w="40095" h="21600">
                <a:moveTo>
                  <a:pt x="0" y="0"/>
                </a:moveTo>
                <a:lnTo>
                  <a:pt x="40095" y="0"/>
                </a:lnTo>
                <a:lnTo>
                  <a:pt x="38695" y="1400"/>
                </a:lnTo>
                <a:lnTo>
                  <a:pt x="1400" y="1400"/>
                </a:lnTo>
                <a:close/>
              </a:path>
              <a:path fill="darken" w="40095" h="21600">
                <a:moveTo>
                  <a:pt x="40095" y="0"/>
                </a:moveTo>
                <a:lnTo>
                  <a:pt x="40095" y="21600"/>
                </a:lnTo>
                <a:lnTo>
                  <a:pt x="38695" y="20200"/>
                </a:lnTo>
                <a:lnTo>
                  <a:pt x="38695" y="1400"/>
                </a:lnTo>
                <a:close/>
              </a:path>
              <a:path fill="darkenLess" w="40095" h="21600">
                <a:moveTo>
                  <a:pt x="400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5" y="20200"/>
                </a:lnTo>
                <a:close/>
              </a:path>
              <a:path fill="lighten" w="400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5" h="21600">
                <a:moveTo>
                  <a:pt x="13041" y="7493"/>
                </a:moveTo>
                <a:lnTo>
                  <a:pt x="16548" y="7493"/>
                </a:lnTo>
                <a:lnTo>
                  <a:pt x="16548" y="12828"/>
                </a:lnTo>
                <a:cubicBezTo>
                  <a:pt x="16548" y="13751"/>
                  <a:pt x="17349" y="14482"/>
                  <a:pt x="18385" y="14482"/>
                </a:cubicBezTo>
                <a:lnTo>
                  <a:pt x="20047" y="14482"/>
                </a:lnTo>
                <a:cubicBezTo>
                  <a:pt x="21083" y="14482"/>
                  <a:pt x="21884" y="13751"/>
                  <a:pt x="21884" y="12828"/>
                </a:cubicBezTo>
                <a:lnTo>
                  <a:pt x="21884" y="7493"/>
                </a:lnTo>
                <a:lnTo>
                  <a:pt x="20047" y="7493"/>
                </a:lnTo>
                <a:lnTo>
                  <a:pt x="23555" y="3985"/>
                </a:lnTo>
                <a:lnTo>
                  <a:pt x="27228" y="7493"/>
                </a:lnTo>
                <a:lnTo>
                  <a:pt x="25391" y="7493"/>
                </a:lnTo>
                <a:lnTo>
                  <a:pt x="25391" y="12828"/>
                </a:lnTo>
                <a:cubicBezTo>
                  <a:pt x="25391" y="15596"/>
                  <a:pt x="22815" y="18155"/>
                  <a:pt x="20047" y="18155"/>
                </a:cubicBezTo>
                <a:lnTo>
                  <a:pt x="18385" y="18155"/>
                </a:lnTo>
                <a:cubicBezTo>
                  <a:pt x="15617" y="18155"/>
                  <a:pt x="13041" y="15596"/>
                  <a:pt x="13041" y="12828"/>
                </a:cubicBezTo>
                <a:close/>
              </a:path>
            </a:pathLst>
          </a:custGeom>
          <a:solidFill>
            <a:srgbClr val="ff8b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WordArt 4"/>
          <p:cNvSpPr txBox="1"/>
          <p:nvPr/>
        </p:nvSpPr>
        <p:spPr>
          <a:xfrm>
            <a:off x="2050920" y="2492280"/>
            <a:ext cx="511344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Подумай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7" name="AutoShape 5">
            <a:hlinkClick r:id="" action="ppaction://hlinkshowjump?jump=previousslide"/>
          </p:cNvPr>
          <p:cNvSpPr/>
          <p:nvPr/>
        </p:nvSpPr>
        <p:spPr>
          <a:xfrm>
            <a:off x="8101080" y="6210360"/>
            <a:ext cx="1042920" cy="647640"/>
          </a:xfrm>
          <a:custGeom>
            <a:avLst/>
            <a:gdLst>
              <a:gd name="textAreaLeft" fmla="*/ 41760 w 1042920"/>
              <a:gd name="textAreaRight" fmla="*/ 1001160 w 1042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4776" h="21600">
                <a:moveTo>
                  <a:pt x="0" y="0"/>
                </a:moveTo>
                <a:lnTo>
                  <a:pt x="34776" y="0"/>
                </a:lnTo>
                <a:lnTo>
                  <a:pt x="34776" y="21600"/>
                </a:lnTo>
                <a:lnTo>
                  <a:pt x="0" y="21600"/>
                </a:lnTo>
                <a:close/>
              </a:path>
              <a:path fill="lightenLess" w="34776" h="21600">
                <a:moveTo>
                  <a:pt x="0" y="0"/>
                </a:moveTo>
                <a:lnTo>
                  <a:pt x="34776" y="0"/>
                </a:lnTo>
                <a:lnTo>
                  <a:pt x="33376" y="1400"/>
                </a:lnTo>
                <a:lnTo>
                  <a:pt x="1400" y="1400"/>
                </a:lnTo>
                <a:close/>
              </a:path>
              <a:path fill="darken" w="34776" h="21600">
                <a:moveTo>
                  <a:pt x="34776" y="0"/>
                </a:moveTo>
                <a:lnTo>
                  <a:pt x="34776" y="21600"/>
                </a:lnTo>
                <a:lnTo>
                  <a:pt x="33376" y="20200"/>
                </a:lnTo>
                <a:lnTo>
                  <a:pt x="33376" y="1400"/>
                </a:lnTo>
                <a:close/>
              </a:path>
              <a:path fill="darkenLess" w="34776" h="21600">
                <a:moveTo>
                  <a:pt x="34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76" y="20200"/>
                </a:lnTo>
                <a:close/>
              </a:path>
              <a:path fill="lighten" w="34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776" h="21600">
                <a:moveTo>
                  <a:pt x="10382" y="7493"/>
                </a:moveTo>
                <a:lnTo>
                  <a:pt x="13889" y="7493"/>
                </a:lnTo>
                <a:lnTo>
                  <a:pt x="13889" y="12828"/>
                </a:lnTo>
                <a:cubicBezTo>
                  <a:pt x="13889" y="13751"/>
                  <a:pt x="14690" y="14482"/>
                  <a:pt x="15726" y="14482"/>
                </a:cubicBezTo>
                <a:lnTo>
                  <a:pt x="17388" y="14482"/>
                </a:lnTo>
                <a:cubicBezTo>
                  <a:pt x="18424" y="14482"/>
                  <a:pt x="19224" y="13751"/>
                  <a:pt x="19224" y="12828"/>
                </a:cubicBezTo>
                <a:lnTo>
                  <a:pt x="19224" y="7493"/>
                </a:lnTo>
                <a:lnTo>
                  <a:pt x="17388" y="7493"/>
                </a:lnTo>
                <a:lnTo>
                  <a:pt x="20896" y="3985"/>
                </a:lnTo>
                <a:lnTo>
                  <a:pt x="24569" y="7493"/>
                </a:lnTo>
                <a:lnTo>
                  <a:pt x="22732" y="7493"/>
                </a:lnTo>
                <a:lnTo>
                  <a:pt x="22732" y="12828"/>
                </a:lnTo>
                <a:cubicBezTo>
                  <a:pt x="22732" y="15596"/>
                  <a:pt x="20156" y="18155"/>
                  <a:pt x="17388" y="18155"/>
                </a:cubicBezTo>
                <a:lnTo>
                  <a:pt x="15726" y="18155"/>
                </a:lnTo>
                <a:cubicBezTo>
                  <a:pt x="12958" y="18155"/>
                  <a:pt x="10382" y="15596"/>
                  <a:pt x="10382" y="12828"/>
                </a:cubicBezTo>
                <a:close/>
              </a:path>
            </a:pathLst>
          </a:cu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WordArt 4"/>
          <p:cNvSpPr txBox="1"/>
          <p:nvPr/>
        </p:nvSpPr>
        <p:spPr>
          <a:xfrm>
            <a:off x="3276720" y="2492280"/>
            <a:ext cx="3382920" cy="12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онец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13:40:32Z</dcterms:created>
  <dc:creator>Александр</dc:creator>
  <dc:description/>
  <dc:language>en-US</dc:language>
  <cp:lastModifiedBy>Пользователь Windows</cp:lastModifiedBy>
  <dcterms:modified xsi:type="dcterms:W3CDTF">2022-06-19T18:51:23Z</dcterms:modified>
  <cp:revision>4</cp:revision>
  <dc:subject/>
  <dc:title>Слайд 1</dc:title>
</cp:coreProperties>
</file>